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045-AD9A-4674-9D8E-A096D9C0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8EE-7D6A-4A48-9162-3B27BF3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85C-A2B1-44E0-93E2-27B51DF8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8B6-F4E6-4C89-97ED-E856849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D429-02B4-4285-BAA7-68C544DE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856-751E-49AE-B0DA-F599C6B3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E67-E8BD-4EE2-B08C-F230333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065-AB54-44B9-835E-4E991F3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1B6-17A3-40AA-9ECB-7349360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15E8-947C-4D09-8594-8C3B9CE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410F-25CC-45E7-9350-E88A93CA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8DE-09D6-458B-94CE-C080D0AB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3E3E-3767-45CB-AFE5-892A505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740-02C6-41CB-BA6E-3A24C7C9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FC76-B3A4-478B-A229-E6EDD71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BA8E-4FDE-48A1-B80B-9667EF78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2D49-39CB-453F-B177-F262D058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251-53A2-4C9A-B161-1DBBD248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305-7CD8-4C0D-B647-0C30E66B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B84-321D-456B-B40C-F5BC0DFA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34B-C9EA-47D7-B7D3-ECBA44E7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C30-DC7C-4E05-A101-FAE8DCF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90E-6BF9-47A0-95BB-A8FC8CA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692-A0F3-4771-A47D-D593F1B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C158-AFFC-4490-972B-7C7DF08EF5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2CFA-AF0E-4BC4-9655-11C1C7E9F6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Romeo_und_Julie" TargetMode="External"/><Relationship Id="rId2" Type="http://schemas.openxmlformats.org/officeDocument/2006/relationships/hyperlink" Target="http://es.wikipedia.org/wiki/Romeo_und_Julie" TargetMode="External"/><Relationship Id="rId3" Type="http://schemas.openxmlformats.org/officeDocument/2006/relationships/hyperlink" Target="http://es.wikipedia.org/wiki/Romeo_und_Julie" TargetMode="External"/><Relationship Id="rId4" Type="http://schemas.openxmlformats.org/officeDocument/2006/relationships/hyperlink" Target="http://es.wikipedia.org/wiki/Romeo_und_Julie" TargetMode="External"/><Relationship Id="rId5" Type="http://schemas.openxmlformats.org/officeDocument/2006/relationships/hyperlink" Target="http://es.wikipedia.org/wiki/1776" TargetMode="External"/><Relationship Id="rId6" Type="http://schemas.openxmlformats.org/officeDocument/2006/relationships/hyperlink" Target="http://es.wikipedia.org/wiki/Ji&#345;&#237;_Anton&#237;n_Benda" TargetMode="External"/><Relationship Id="rId7" Type="http://schemas.openxmlformats.org/officeDocument/2006/relationships/hyperlink" Target="http://es.wikipedia.org/wiki/Ji&#345;&#237;_Anton&#237;n_Benda" TargetMode="External"/><Relationship Id="rId8" Type="http://schemas.openxmlformats.org/officeDocument/2006/relationships/hyperlink" Target="http://es.wikipedia.org/wiki/Ji&#345;&#237;_Anton&#237;n_Benda" TargetMode="Externa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OMEO Y JULIETA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5715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luencia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l menos unas veinticuatro óperas se han basado en </a:t>
            </a: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  La más antigua,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omeo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und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Juli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apareció en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1776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al estilo de singspiel (pequeña ópera popular) por 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Georg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s-ES" sz="28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Bend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 ha influido a varias producciones de jazz, entre las cuales sobresalen la interpretación de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eggy Le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ecto a parodias,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fue satirizada en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Las Dos Furiosas Mujeres de Abingdo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1598) de Henry Porter, y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Blurt, Master Constabl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607) de Thomas Dekker, específicamente en la escena del balcón, donde una heroína virgen recita palabras indecentes.  Desde otra perspectiva, la obra shakesperiana influenció también a ciertos trabajos literarios, destacándose el texto 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Nicholas Nickleby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de Charles Dick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primera ilustración conocida representa la escena del balcón,  que se atribuye a Elisha Kirk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NE Y TELEVISIÓ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n el cine destacamos la grabación de cine mudo aportada por Georges Méliès, cuya grabación no se ha conservado y tres cintas más: la de George Cukor, la de Franco Zeffirelli y la de Baz Luhrmann, posiblemente siendo actualmente esta última la más conocida por estar protagonizada por Leonardo Di Caprio y Claire Danes, y por plasmar una sociedad más cercana a la actual. Mención especial debemos hacer de la película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Shakespeare in lov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donde además de reflejar la trama de la obra de Shakespeare, vemos la época, el concepto de teatro y la sociedad.        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1333800" cy="1904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12859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95880" y="429264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Romeo y Julieta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 (1597) es una tragedia de Willian Shakespeare. Cuenta la historia de dos jóvenes enamorados que, a pesar de la oposición de sus familias, rivales entre sí, deciden casarse de forma clandestina y vivir juntos; sin embargo, la presión de esa rivalidad y una serie de fatalidades conducen al suicidio de los dos amantes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muerte de ambos, sin embargo, supone la reconciliación de las dos familias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jes de la obr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1810" t="19196" r="39857" b="34700"/>
          <a:stretch/>
        </p:blipFill>
        <p:spPr>
          <a:xfrm>
            <a:off x="0" y="207792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GUMENTO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la ciudad de Verona existen dos familias rivales que mantiene un rencor antiguo que involucra hasta ajenos a las familias como Paris y Mercucio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dos únicos descendientes de cada familia Romeo y Julieta se ven por primera vez en una reunión y se enamoran perdidamente. 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amantes se ven obligadamente a escondidas la segunda vez, a la tercera vez se casan en secreto gracias al Fraile Lorenzo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co después de la boda en un enfrentamiento entre Montescos y Capuletos muere el mejor amigo de Romeo, Mercucio en manos del sobrino de Capuleto, Teobaldo, Romeo en venganza le da muerte a este, el príncipe condena a Romeo al destierro a Mantua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uarta vez que los enamorados se ven consuman su noche de bodas, el padre de Julieta planea el matrimonio con el caballero Paris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Fray Lorenzo crea un plan para salvar el amor de Romeo y Julieta, ella beberá una poción en una ampolleta que la hará parecer muerta durante 42 horas, ella cumple el plan. 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ro de Fray Lorenzo fracasa en el camino para avisar a Romeo el plan, este se entera de la supuesta muerte de Julieta y decide regresar a Verona para morir junto a la tumba de su amada.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se encuentran Romeo y Paris, se enfrentan y Paris muere, Romeo bebe un veneno antes que Fray Lorenzo lo evite y que Julieta despierte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lieta despierta y Fray Lorenzo le explica la situación, los guardias ahuyentan al Fraile y Julieta toma la daga de Romeo y se suicida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l cementerio Fray Lorenzo cuenta la historia y finalmente parece que las familias harán la pa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A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Odio: el enfrentamiento que mantienen Capuletos y Montescos enmarca la relación extraordinaria entre Romeo y Juliet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Amor: la pasión que manejan los amantes es desbordante y frenética, se puede observar en el corto periodo de seis días donde se enamoran, se casan, tienen su noche de bodas y sucede la tragedia. 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ragedia: el amor entre Romeo y Julieta es trágico desde el principio al ser obligados a encontrasen a escondidas y como una burla del destino de estos dos el fallido plan con desenlace fatal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5:17:36Z</dcterms:created>
  <dc:creator>Francisco</dc:creator>
  <dc:description/>
  <dc:language>en-US</dc:language>
  <cp:lastModifiedBy>Francisco</cp:lastModifiedBy>
  <dcterms:modified xsi:type="dcterms:W3CDTF">2013-11-13T15:03:27Z</dcterms:modified>
  <cp:revision>3</cp:revision>
  <dc:subject/>
  <dc:title>ROMEO Y JULIETA:</dc:title>
</cp:coreProperties>
</file>